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E1B8-C092-4737-9C21-E983817A4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947F-B44A-42F0-8DA0-F854D8E0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A58B-90A7-4BFF-939F-E2CD7153C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660B-43B9-4B6A-BF75-953DCCE8B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3541-A347-4259-B32C-560402E1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9D55-C0B1-4846-A3BB-AB9FE4FE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1499-576E-4D12-835D-AF9E221F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6844-9F75-4FA1-8CA6-93DC9F3D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3C94-104C-4FA5-A258-CCDD42D5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BBEB-B5D3-4729-9EB7-92F730E6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2484-A822-4F7B-A489-5A9D4F92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5F4A-5B70-4AAA-A143-B440AEE3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43E0-A04D-49B9-B733-C9D70049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0EF0-2D2F-449D-865E-E7DF6D9F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525A-370D-4164-9818-9658AF48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7F20-9A65-43F4-83F2-CD45FACBC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0F67-7F8D-457E-83DD-3551E858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2BE6-780A-4E27-AEDE-7F1D6D74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D482-8DA7-46F1-885F-60098D79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7D48-E613-4DAA-B742-527AA8F5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E570-6FF3-4CAC-A5F6-18E6F518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E917-EE19-496C-820D-E171AD53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3A9C-A08A-447E-A202-7989923A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03AB-BF87-4419-B63A-4544A266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A89C-E8EB-4B2E-BFE2-8D4E9F4E64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B96A-5F50-45F8-8050-74154F7496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Baskerville Old Face"/>
              </a:rPr>
              <a:t>Comparing and Contrasting Literary Elements Using a Document Camera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315200" y="4495680"/>
            <a:ext cx="590400" cy="1782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80880" y="3962520"/>
            <a:ext cx="3581640" cy="2286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95280" y="2590920"/>
            <a:ext cx="3124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08040" y="3160800"/>
            <a:ext cx="268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38098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The Pit and the Pendulu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81280" y="624852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rush Script MT"/>
              </a:rPr>
              <a:t>By Edgar Allan Po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62895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505320" cy="2971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724280" y="3429000"/>
            <a:ext cx="3784680" cy="2819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0" y="685800"/>
            <a:ext cx="372420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exts Used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838080" y="3962520"/>
            <a:ext cx="2057400" cy="2133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43000" y="36568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Old English Text MT"/>
              </a:rPr>
              <a:t>The Rav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34120" y="2895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Baskerville Old Face"/>
              </a:rPr>
              <a:t>Objective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00600" y="2742840"/>
            <a:ext cx="4038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aryland VSC Indic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.2.4: The student will identify and/or explain connections between and among themes and/or styles of two or more texts.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44956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Mrs. H and Elmo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3733920" cy="30481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67080" y="3581280"/>
            <a:ext cx="3886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ile Mrs. H writes and speaks, students  write what she writes.  Elmo displays from her table onto the board. She is also able to display and save images from Elmo to her compu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486400" y="609480"/>
            <a:ext cx="32767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3708360" cy="3353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3733560" cy="3047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85800" y="510552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udents have a venn diagram that is the same image displayed on the board through Elmo. As the image on the board is filled in, students complete their diagra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71800" y="228600"/>
            <a:ext cx="3200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askerville Old Face"/>
              </a:rPr>
              <a:t>Student 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191120" y="1752480"/>
            <a:ext cx="3251160" cy="2438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" y="4267080"/>
            <a:ext cx="3251160" cy="2438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838080" y="1447920"/>
            <a:ext cx="2454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Joshua writes student responses onto image displayed from Elmo (onto chart paper to post as a reference source within the classroom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79840" y="5065560"/>
            <a:ext cx="4206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tudents provide responses as to the similarities and differences of literary elements between “The Pit and the Pendulum” and “The Raven.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42840" y="228600"/>
            <a:ext cx="33526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askerville Old Face"/>
              </a:rPr>
              <a:t>Student U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askerville Old Face"/>
              </a:rPr>
              <a:t>Completed Comparis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4851360" cy="3048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752480" y="5105520"/>
            <a:ext cx="512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s is the complete comparison generated by students through classroom discus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9:33:32Z</dcterms:created>
  <dc:creator>lewan hutchison</dc:creator>
  <dc:description/>
  <dc:language>en-US</dc:language>
  <cp:lastModifiedBy>lewan hutchison</cp:lastModifiedBy>
  <dcterms:modified xsi:type="dcterms:W3CDTF">2009-02-21T03:13:55Z</dcterms:modified>
  <cp:revision>6</cp:revision>
  <dc:subject/>
  <dc:title>Using a Document Camera in a High School English Class</dc:title>
</cp:coreProperties>
</file>